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A316-2F0A-4B99-865A-6E944BC9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225-3C47-4C58-93B1-F4E89AC1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7D6-7E9F-4721-A3CB-72D9DA5F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F4AA-A988-4695-A1AD-5B3EEA18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658-97C6-4ED5-A6E8-A7C6E633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5B3C-A836-4211-B387-F6781A4B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46A-103C-4B4C-B1FE-B808371B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ED8E-2F53-475E-977B-C09BEB64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B20-692F-44E0-979C-D6F29E4B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CCD-EB78-49CB-B2FF-5A137924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8C5-3D59-4ACA-A956-6AA6917F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571-E8F5-4C63-8F2F-9FBB4BCA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3ADE-FD73-4E29-9965-94B8EE233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uli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we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fox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nu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le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8. mo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9. hu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0. from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1. an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5. fu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6. job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7. wen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66720" y="-360"/>
            <a:ext cx="48769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2. o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3. ever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4. blo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uli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we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le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mo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fox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5. from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6. fu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7. hu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Juli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238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eve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loc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ox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gett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8. probl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9. bet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0. lun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1. but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5. pres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6. sev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7. stuck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8. sm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2. vis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3. mes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4. differ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 </cp:lastModifiedBy>
  <dcterms:modified xsi:type="dcterms:W3CDTF">2008-09-15T21:35:21Z</dcterms:modified>
  <cp:revision>5</cp:revision>
  <dc:subject/>
  <dc:title>The Art Lesson Group A</dc:title>
</cp:coreProperties>
</file>